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0A3-D568-43A2-81ED-58E9260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6D0-A57A-4AB4-A6B1-759A7EF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B9727-D3B9-4C67-813A-FC75E19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28B22-0FF4-4EAB-9C3B-D760C80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F1A40-D9CD-4155-B5DF-4426F2A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5DBE-D797-4518-B376-B9ACAC5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643F-B5ED-424C-B21F-BB3D350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869A-9160-4EAA-9660-4E6BB540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A9AD-55C4-402D-A59A-4DA58E4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1EC94-5D5F-4719-863A-3CC1F14E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7224-464C-47D5-A993-5281D7C1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FC267-BC82-4A45-B719-C621B9C4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48C-8E68-4163-B86C-9BF5F4E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711C3-1117-430E-B1C1-18862F5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12F16-71BC-40FB-8C5E-BA53A59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7E32-561B-4454-B6C2-64B5350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0194C-DE9D-4215-8402-5B015A2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0ECE-5333-47E3-BB08-DC557A0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BD86F-7203-41F1-9E77-74A0CB4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A9699-FF25-4900-9002-598E3F27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B5EB6-E1A1-4C1F-AF63-B4B051F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75AFD-23FB-48A0-A593-7E4619F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17558-F008-447C-9971-E40DCEE2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545-444D-4E6C-A699-458497D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7F9C-4A67-442F-BED6-62A6378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87191-B454-46BA-AE92-206B1884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FE44-1C9C-4612-8A20-40FDF93E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FA4C-29B0-4183-B21C-56AE142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6B19-F190-4333-8934-A010C0AE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9A41-2CA4-474C-89A1-FAB0649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A747C-D21D-400E-BD99-27C1D02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F916-623C-4ECC-9957-4250476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67D09-50A1-4F08-8984-CB7668AB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3FEF4-A743-4AB4-B67D-D2CAC97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36C9-56EB-4C9D-B364-CF18DD75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A815-1C42-47AF-839F-A29C15CB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A5E68-15DE-4590-ABC5-F9A54C64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5B573-0139-484E-A43C-C8E08C62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DFC3-3610-41CA-954F-33627C4D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7589C-852D-4745-881A-E214AE6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A8476-8FE6-4808-B107-71CE0A4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C8C87-16C8-477F-AE63-8F85B667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287E4-0DA0-49CA-852D-0F4490C6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A2004-8349-49E6-804C-F2597098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EC8E6-0F4F-4C31-B138-34CC717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28C1-9CAB-4ECF-91AE-2A8D883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851C-A0FA-4F97-ADE0-9B44CB5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746F4-53D4-4F10-B231-27955FE2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AC00D-13F5-4B41-BFCA-5A614C2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AE22-6A55-4691-8389-3824005C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0C847-9688-4F49-AB5E-975BCC77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4C4A9-3B74-47EA-B4F6-07C41981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28D0A-C9A1-4089-ACBB-1C3A249B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45479-B49B-4D1C-A582-2543E0B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43CA9-8ED6-4398-B14D-5EAE038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8AA89-DD13-4EF1-81CF-F0DD6CA3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D7BF-316A-4CC3-B0A2-F390429F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9E6E5-AC99-45FF-8ED6-9223F399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87550-097B-4EE1-BBC3-A99326F8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B2F96-DD02-4DD5-A30C-AA8D92E5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8FD74-A08A-4030-B9ED-5C0A647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4639C-B118-4ACC-A09C-6C100D6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AB8B3-7C0F-4E5C-8C04-4A048950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5DE5-EFA9-4E03-9893-15BDB815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E5519-1E2D-430D-8C76-D7197C73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E44A4-6EE6-479D-8C44-6597E93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98F32-8935-4B25-94BD-3FAADCE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433D-3454-44CB-BD36-153BFDC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01EE4-4D0D-4189-AD97-15818627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96260-2509-42DD-AAA7-9C944B7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653A5-5102-4414-A4FE-AE2DB0D5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42005-D658-40CC-B93B-25D175D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A389D-C7DE-414D-9342-034E5D2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6599F-AE04-488A-B8EB-3956F3F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2DCDB-0A37-4CBD-82FC-5CCA216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13932-3F61-4D7E-9A7E-C9614767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EBF8B-0703-4C58-B307-AED4A2D0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C07DA-7E67-45CB-B1A0-7EC92B6E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10F5-C89C-41F6-A54B-2F7FAC5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C4B0D-29AE-44E4-A128-A812B18D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77003-89C8-447F-A010-C5A8443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8DEC9-B8DB-429B-836E-3CA4F292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F8E05-A6D1-494E-AD76-07CBD189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0F2B9-0311-43AB-89BD-950FB2B0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F56F4-A4ED-4862-95C4-E11840A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E363C-4721-4F77-81A7-34C3B73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D695D-40BD-4234-B415-9FBA7A8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C9AA9-EA9E-4526-AD8C-5A85674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43AF3-5277-4590-8042-39585E58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834-9DCD-4517-BC06-B568CDDD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4413B-4AD0-4838-AD8F-63945B80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70FB3-8913-4D19-A1FB-93642EFB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4505F-1E20-4709-BE07-E7D59E16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F7B5E-4C72-4C6E-9BC8-C09DA0B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4094B-7AB2-4ECB-9BB4-C7855E3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39A72-8795-4706-BED1-6F18D6B4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1739D-53EC-4B0A-BC0A-CA197591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09664-4E28-413D-A8BF-93BE722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12A82-F32A-47DE-921A-86ADDF2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CFA2C-B6DE-45D8-B769-FEE266B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8B87-1A31-44E0-9870-FF254D89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45BE4-8F08-4C7B-B799-D7D9D954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BB782-DC7C-47A1-A3E7-3C651F45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07A77-298B-446E-8250-38F7F736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F5F28-49E0-4943-8A9C-07FDBCD4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AEBDB-B2C7-4024-AFD2-EDAD0D01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B8C03-0EEB-4FD8-A397-3608374F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488D9-7583-4C99-B856-7C903E70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DB803-63A0-4305-BBB1-ADAB279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F84A1-4F83-4ED7-AB78-0327E1A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44AA6-0317-4677-A18A-1B04279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64B-AF0B-401A-BD19-68BE25DC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FB50-0008-4F99-B238-715EBF1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1DE2E-5215-41D5-894E-165A9AA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42487-C0F3-4BEA-8D0D-0049243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EF58A-FBF1-4770-945D-2524DE7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4DDE1-3BC8-4AE4-BE18-199F2F56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7DB5D-7AEA-416A-9752-7C117726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8A54F-585F-4ED5-A6A1-38FC1C6C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22DB9-D940-40E2-938C-6632184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6EA52-E54C-44AA-AA12-33602E8B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50929-AFFF-42EE-829C-22F4727D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9CFEB-5A72-4B15-A2CB-1685161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8EFF-9BA6-4F88-96A7-796B431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27A6C-3750-4F76-BB62-FFD7E98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D6ABD-DE8B-464B-8E3F-BDBD204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53665-F7FE-4777-80CA-DD8AC1D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80F66-8394-4104-9B32-0251439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C213B-C238-4299-A732-02DA8FC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FE398-D374-480C-BB28-F798EC5C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D3482-1F20-4E9D-9D1F-4DB2B2BC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45D63-68DF-439B-982F-5E213C94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42D9C-598A-40BB-88F5-A0FEB923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2C668-88FE-4AD8-8999-A2CEA341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E015-E9A1-4D95-B216-F0EB8EE1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2D94B-FBED-445E-92D9-17845FCD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4A0DF-E7DF-49E8-B15C-709219C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D648C-FB9B-4D3D-A80C-4399839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64552-7F5B-43F5-99E6-FC59D71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BE152-2A16-4322-88B1-A00E6D5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2F137-6B27-456C-91CC-18046B2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1455F-CE15-469C-8399-9160BBDD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724A6-2DBF-4D93-9FA0-2BE128A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8069D-FD63-4C23-BD71-8B055340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74AF6-C10A-475F-937D-7BAA65C0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2B51-1E69-4E7A-BCB0-01726D5E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D442D-7E72-4DE7-852F-4933639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60D2F-DA4C-4DA2-AA1F-554370A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1C5E8-016F-4C97-AF4E-B2EF8B6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179F6-54AE-4300-91ED-0811A3D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C8A37-1769-4996-8E1F-A84A361E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14E86-6FC4-4AF7-B9D0-F397AC0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CC432-B81A-4EE8-9AE7-88DC4E1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C8FCF-BC57-4E27-B7DD-2344235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7F06A-548E-46DE-99F6-E2218758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B500D-93A1-40CC-B6C1-8C84DD1D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5982-F551-4D51-9F09-6379A407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11E2C-3B4E-4AEB-A7C2-BE107928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9DBD0-7363-4D5C-B9AF-609AC7EA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B03C0-DB36-4285-B5BB-1A02AB9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7B9AEC-E539-4283-9417-E677791C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B3ED0-81A5-439C-A71F-666A0E68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2A5D0-BBC5-4FF5-8723-522D429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AB43D-EBE3-4888-AAF2-78D68DAA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C5F0C-1F4D-4395-9509-8A27725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E23F2-B07B-4E3F-90BA-9FB4C88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BF53F-AF8B-4403-9B91-C584188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5306-FAC3-4829-921E-49949935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C71AF-E177-469B-B7F7-37FC322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0DD95-E620-4890-AC81-A7275F60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D7E77-17A0-4FB0-9311-9A5E0AB8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C656-5B05-4CE4-9456-D5896E99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D50B-0101-4D45-BED6-CE43991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6827-3CB4-40C7-8235-F3B866B1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BA65-19A0-4780-B542-9DDB6EDD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66A-C350-4C58-9B64-DA96661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CB0AB-BFBC-4746-9F98-77271DE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73D3-76A3-4A81-8D0E-AC82CC8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B13C-4710-484C-8796-F127C12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796D-6B6C-4A0C-B5B4-A72E62F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9B95-3A49-45BF-9BB3-3839167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1B69-084C-42EB-95B6-53D4C1EF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DF21-91CD-44D5-A98B-13783A55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A774-D79A-45E4-89C1-71E2B76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0AE1-0DED-48C5-BF98-822CB41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DFD5-79B2-456F-AC61-28CFA92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137-5FC5-4F55-B702-976D469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11CE-14FF-480E-B2B7-09F797AA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B368-97AA-4669-B827-FFE719F4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1F76-5498-4D16-B98E-341527C2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4CF3-FB04-4CEB-81A1-D44E2FB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804F-ADCE-4D74-AC3E-AB31F0A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82E2-4B0E-4662-882A-7E9F5D91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8A71-79D2-47E2-9FF7-EF14F85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6750-FE64-4522-A83F-E357AEE9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1664-4A4E-452B-8A36-7AFC4DB4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D53B-7F3E-49F0-9313-23FFB86B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2DE-5320-4C54-9883-97DD523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1AEF-25B0-4808-9B27-BC63C059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FA2E-0C8D-4D71-8816-2FEACD7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26E0-A3BE-40A4-90A1-30286D8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DEB2-951B-4D82-B5F4-6355F07F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88EC-9F59-48A2-A2F5-935D6FB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8A73-BC5E-4549-B488-8CB3298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0577-6FE6-467C-804A-636B812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D70F-DDC8-4F12-BBC4-782FF240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985C-961B-4D7D-96E3-A73C179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30D9-0B49-41FB-A4DD-6A39D749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E47-5CFD-4020-B97F-4380D9E1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CE8D-BC36-4085-B3F1-1620605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6D6B-8431-4F3E-92AC-EC18632C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C21E-71D9-4564-A118-F2AA1CCE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49D4-2505-4C78-8736-0ECAAE85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B731-FF04-4B81-81EF-6F80264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5D08-6890-47EF-A775-CAF2D39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F079-CA89-4A6F-81DD-30AD9CA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5359-4D18-49E2-9C92-27AFA48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12667-F6DF-4A6F-A334-67F5FC3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DA80-9E13-4E6A-95BC-70D08FF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BBB-97F7-48FF-8D1F-552144D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7512-BE55-41F1-8EFD-B34D17D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25C5-BC55-4873-BB29-2BED87B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67DA-4771-4777-884B-F24B8F5C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C3BC-2DC9-4127-BE8E-1686D657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17C2-B801-46EA-99E2-AE176BB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5EBE-AA24-4539-80D1-97AFB6C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1D25-53DD-4936-B6C6-3D8BE349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70AB-B07C-4521-AD9A-05D0D10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79084-6663-4102-8808-72761691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1634-5AA3-4055-A757-482730C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98D-8DEE-4C71-B7B7-17DCB9D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1D63-4CEF-49F7-A62C-B9DC8E4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AE1E3-E65F-486C-8438-3530FBC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413E4-D46C-4D1E-93F6-E964CAB2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4126-4C0E-4CA0-B102-7D0FD759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5CFB-8596-4E63-BB3D-9756D0D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1D505-1E63-4A18-ADC0-2E80B722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36A3-6EC3-49E2-9C0C-1A10019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6CBBB-2460-465E-87D3-C2E27E1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0AF0-3753-4ECE-96CD-61E58C4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8D95-5BF7-4F16-B51E-47C32E4E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14B-4934-47C4-99AC-D9958FA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EC2C-EBDB-4A20-9D9D-174FFD5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88D9-3C7B-4E41-8371-A2FBB6B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B737-41A9-4702-85A2-3823B26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5AE2-627B-4741-8D4C-657521A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E871-8AA1-497D-91F6-5FF5B63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CCB62-43A7-46D3-81CF-E1201149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06188-B217-4ED0-BDB9-39ABB402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0E38-7D8B-420E-9498-9742C771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471BE-9396-4E56-825B-30E615E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730B1-065D-45C8-9EA1-35F7415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3B2-61EF-4FD3-8896-D9ED990F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C52-C572-4F33-89C6-E99D895AEB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BD7C-5E13-4B2A-A265-371F5D371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C9F-C10F-40DD-AA47-B8BC3BC27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A984-E293-4AF2-887F-A2FB5487C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10DC-DDE9-4AA1-BF4D-770F71FD0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9536-38FD-41EA-95D1-0AB43922B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FFF-6D77-44BB-9026-0DF8A47D9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706-8E03-488E-AD1B-B15EDB123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3832-CD2E-4538-BDAB-A463FDFFF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60B-5E67-4E55-A413-E85F19661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F26-9AC6-4918-94D7-233E9A9243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92BD-4AEA-4991-BF7A-6E2DE7A8D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8DB8-9CD3-42A5-B281-C3A8CBD24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90A-6D2B-4704-896D-D123B798F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B5CF-DF5A-4D5A-B798-110EC34C98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B4D-D00D-4D8F-9C41-B638B364E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201F-26C2-4078-A883-A84E0ED4B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B62-B855-479A-A2DC-DEA5883AF9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B6C-0A1B-41F6-B2DC-AA2E10528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70A-5CD2-4B3D-B4E4-BA9467B30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D7C-E1AA-44C8-A9EC-240AF0E26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8ED-B230-48D6-9404-15BE094AD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D76F-B020-4DD0-8A29-CC1665460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58A0-213C-4430-A549-827646E51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088-C0B1-4FF8-BC6F-CFC558694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187C-CE3D-44E4-97E1-DC32AC88A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6B6-2623-43EF-BD1E-00959A78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7E35-37B8-41AC-A671-3939713E3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451-5F5F-4E85-B417-B5419A96A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6FE-C45B-46B5-B925-5263F949B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BD79-5205-489E-B495-98D2596FC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9127-8914-4F1A-A28A-282D8D7A85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2C7B-C8BD-498A-A6BD-2E987E674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E46C-DF88-4DEE-A190-E6AC51935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47C-D95A-4BC2-AF85-0210934F33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8B9-F387-4A43-9B30-B97149099D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955-C5C3-4B48-AD1D-265FD1A22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99B-FADC-4F2C-A19B-F311ADA51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A2F3-37FD-4B7C-AC3B-CE217B80C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3367080" y="3038400"/>
            <a:ext cx="2409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58200" cy="2533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1428840" cy="357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2" descr=""/>
          <p:cNvPicPr/>
          <p:nvPr/>
        </p:nvPicPr>
        <p:blipFill>
          <a:blip r:embed="rId3"/>
          <a:stretch/>
        </p:blipFill>
        <p:spPr>
          <a:xfrm>
            <a:off x="3765600" y="2440080"/>
            <a:ext cx="142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795240"/>
            <a:ext cx="857232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2440" y="743040"/>
            <a:ext cx="84391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338040" y="714240"/>
            <a:ext cx="8467920" cy="5144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2"/>
          <a:stretch/>
        </p:blipFill>
        <p:spPr>
          <a:xfrm>
            <a:off x="357120" y="1233360"/>
            <a:ext cx="8524800" cy="5410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3"/>
          <a:stretch/>
        </p:blipFill>
        <p:spPr>
          <a:xfrm>
            <a:off x="735120" y="171468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4"/>
          <a:stretch/>
        </p:blipFill>
        <p:spPr>
          <a:xfrm>
            <a:off x="785880" y="228600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5"/>
          <a:stretch/>
        </p:blipFill>
        <p:spPr>
          <a:xfrm>
            <a:off x="785880" y="271476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6"/>
          <a:stretch/>
        </p:blipFill>
        <p:spPr>
          <a:xfrm>
            <a:off x="836640" y="328608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7"/>
          <a:stretch/>
        </p:blipFill>
        <p:spPr>
          <a:xfrm>
            <a:off x="785880" y="370692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8"/>
          <a:stretch/>
        </p:blipFill>
        <p:spPr>
          <a:xfrm>
            <a:off x="836640" y="427824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2" descr=""/>
          <p:cNvPicPr/>
          <p:nvPr/>
        </p:nvPicPr>
        <p:blipFill>
          <a:blip r:embed="rId9"/>
          <a:stretch/>
        </p:blipFill>
        <p:spPr>
          <a:xfrm>
            <a:off x="785880" y="471492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2" descr=""/>
          <p:cNvPicPr/>
          <p:nvPr/>
        </p:nvPicPr>
        <p:blipFill>
          <a:blip r:embed="rId10"/>
          <a:stretch/>
        </p:blipFill>
        <p:spPr>
          <a:xfrm>
            <a:off x="836640" y="5286240"/>
            <a:ext cx="428760" cy="35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"/>
          <p:cNvPicPr/>
          <p:nvPr/>
        </p:nvPicPr>
        <p:blipFill>
          <a:blip r:embed="rId11"/>
          <a:stretch/>
        </p:blipFill>
        <p:spPr>
          <a:xfrm>
            <a:off x="785880" y="571500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12"/>
          <a:stretch/>
        </p:blipFill>
        <p:spPr>
          <a:xfrm>
            <a:off x="836640" y="6286680"/>
            <a:ext cx="4287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309600" y="824040"/>
            <a:ext cx="8524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57120" y="735120"/>
            <a:ext cx="8429760" cy="1000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2" descr=""/>
          <p:cNvPicPr/>
          <p:nvPr/>
        </p:nvPicPr>
        <p:blipFill>
          <a:blip r:embed="rId2"/>
          <a:stretch/>
        </p:blipFill>
        <p:spPr>
          <a:xfrm>
            <a:off x="271440" y="1735200"/>
            <a:ext cx="851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8467920" cy="4552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674640" y="129708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3"/>
          <a:stretch/>
        </p:blipFill>
        <p:spPr>
          <a:xfrm>
            <a:off x="774720" y="2357280"/>
            <a:ext cx="428760" cy="35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4"/>
          <a:stretch/>
        </p:blipFill>
        <p:spPr>
          <a:xfrm>
            <a:off x="785880" y="334656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"/>
          <p:cNvPicPr/>
          <p:nvPr/>
        </p:nvPicPr>
        <p:blipFill>
          <a:blip r:embed="rId5"/>
          <a:stretch/>
        </p:blipFill>
        <p:spPr>
          <a:xfrm>
            <a:off x="774720" y="435780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6"/>
          <a:stretch/>
        </p:blipFill>
        <p:spPr>
          <a:xfrm>
            <a:off x="785880" y="535788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306360" y="960480"/>
            <a:ext cx="8496360" cy="20955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214200" y="3067200"/>
            <a:ext cx="8534520" cy="3504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3"/>
          <a:stretch/>
        </p:blipFill>
        <p:spPr>
          <a:xfrm>
            <a:off x="6837480" y="2550960"/>
            <a:ext cx="428400" cy="35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4"/>
          <a:stretch/>
        </p:blipFill>
        <p:spPr>
          <a:xfrm>
            <a:off x="7469280" y="3622680"/>
            <a:ext cx="1071360" cy="357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2" descr=""/>
          <p:cNvPicPr/>
          <p:nvPr/>
        </p:nvPicPr>
        <p:blipFill>
          <a:blip r:embed="rId5"/>
          <a:stretch/>
        </p:blipFill>
        <p:spPr>
          <a:xfrm>
            <a:off x="7858080" y="4124160"/>
            <a:ext cx="1071720" cy="35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"/>
          <p:cNvPicPr/>
          <p:nvPr/>
        </p:nvPicPr>
        <p:blipFill>
          <a:blip r:embed="rId6"/>
          <a:stretch/>
        </p:blipFill>
        <p:spPr>
          <a:xfrm>
            <a:off x="214200" y="4643280"/>
            <a:ext cx="2000520" cy="35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7"/>
          <a:stretch/>
        </p:blipFill>
        <p:spPr>
          <a:xfrm>
            <a:off x="3357720" y="5632560"/>
            <a:ext cx="1071360" cy="357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2" descr=""/>
          <p:cNvPicPr/>
          <p:nvPr/>
        </p:nvPicPr>
        <p:blipFill>
          <a:blip r:embed="rId8"/>
          <a:stretch/>
        </p:blipFill>
        <p:spPr>
          <a:xfrm>
            <a:off x="4357800" y="6143760"/>
            <a:ext cx="1071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18960" y="995400"/>
            <a:ext cx="8506080" cy="5505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7715160" y="1571760"/>
            <a:ext cx="1071720" cy="357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2" descr=""/>
          <p:cNvPicPr/>
          <p:nvPr/>
        </p:nvPicPr>
        <p:blipFill>
          <a:blip r:embed="rId3"/>
          <a:stretch/>
        </p:blipFill>
        <p:spPr>
          <a:xfrm>
            <a:off x="428760" y="2071800"/>
            <a:ext cx="1071360" cy="357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1428840" cy="357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2" descr=""/>
          <p:cNvPicPr/>
          <p:nvPr/>
        </p:nvPicPr>
        <p:blipFill>
          <a:blip r:embed="rId5"/>
          <a:stretch/>
        </p:blipFill>
        <p:spPr>
          <a:xfrm>
            <a:off x="4929120" y="5583240"/>
            <a:ext cx="142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5:39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